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7.jpeg" ContentType="image/jpeg"/>
  <Override PartName="/ppt/media/image18.png" ContentType="image/pn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4ED4-3F5A-4E91-BC95-7B1EA5485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190B1-3BE6-49BC-8781-BA50D2630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2960-8A17-4748-AC6E-B944203D5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6D5A9-982B-437D-BD76-6D6D78A49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6B99C-9111-41E9-963C-BF689916F5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C33110-C3BD-4E9C-B223-2F127DEDA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8AD8B5-6C5F-4006-B210-B791AF43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E3729-F7C0-4492-A843-C10A9E7C0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6075A-D655-4C9F-A524-FD63867E91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452C1-28B5-42B2-AC6F-FE31AD690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1177B4-E967-4D89-8B45-1D51B5765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 type="subTitle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3FE7A-EBCD-4B94-9441-65F95F16A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CD219-C9CA-4BA8-9EBA-AB25B7B59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7BF47-99F8-4190-AE96-68F20EB7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3EB00-2578-4625-A3CA-1FA17128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43BC1-5D39-476E-8BF4-46E7436D15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9468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322320" y="17715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1066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69468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322320" y="3921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61D6C-4A51-4A6C-AD8D-20B81D53B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4C2D-5800-46A2-BDAD-863D39B30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67031-5E02-4A16-AC43-A33C9BD22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4A85-3440-4FD0-AA8C-A17A99BBEC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066680" y="3996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6B184-F00A-41E8-A507-C68E4778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9174-BF54-43FC-9912-1289937DF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5049360" y="3921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697E-7918-4329-BBDB-C66E21296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106668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049360" y="17715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1066680" y="3921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0F1B-309C-4E95-AD41-4E7F4A88C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50760"/>
            <a:ext cx="8925840" cy="6743520"/>
            <a:chOff x="0" y="50760"/>
            <a:chExt cx="8925840" cy="674352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50760"/>
              <a:ext cx="8925840" cy="6743520"/>
              <a:chOff x="0" y="50760"/>
              <a:chExt cx="8925840" cy="674352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528840" y="201960"/>
                <a:ext cx="8397000" cy="64674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3" name="Picture 5" descr="minispir"/>
              <p:cNvPicPr/>
              <p:nvPr/>
            </p:nvPicPr>
            <p:blipFill>
              <a:blip r:embed="rId2"/>
              <a:stretch/>
            </p:blipFill>
            <p:spPr>
              <a:xfrm>
                <a:off x="0" y="50760"/>
                <a:ext cx="1181160" cy="42861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" name="Rectangle 6"/>
              <p:cNvSpPr/>
              <p:nvPr/>
            </p:nvSpPr>
            <p:spPr>
              <a:xfrm>
                <a:off x="596880" y="4131000"/>
                <a:ext cx="1041120" cy="4572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5" name="Picture 7" descr="minispir"/>
              <p:cNvPicPr/>
              <p:nvPr/>
            </p:nvPicPr>
            <p:blipFill>
              <a:blip r:embed="rId3"/>
              <a:srcRect l="0" t="40000" r="0" b="0"/>
              <a:stretch/>
            </p:blipFill>
            <p:spPr>
              <a:xfrm>
                <a:off x="0" y="4222800"/>
                <a:ext cx="1181160" cy="2571480"/>
              </a:xfrm>
              <a:prstGeom prst="rect">
                <a:avLst/>
              </a:prstGeom>
              <a:ln w="0">
                <a:noFill/>
              </a:ln>
            </p:spPr>
          </p:pic>
        </p:grpSp>
        <p:grpSp>
          <p:nvGrpSpPr>
            <p:cNvPr id="6" name="Group 8"/>
            <p:cNvGrpSpPr/>
            <p:nvPr/>
          </p:nvGrpSpPr>
          <p:grpSpPr>
            <a:xfrm>
              <a:off x="1149120" y="1543680"/>
              <a:ext cx="7742520" cy="4800600"/>
              <a:chOff x="1149120" y="1543680"/>
              <a:chExt cx="7742520" cy="4800600"/>
            </a:xfrm>
          </p:grpSpPr>
          <p:sp>
            <p:nvSpPr>
              <p:cNvPr id="7" name="Line 9"/>
              <p:cNvSpPr/>
              <p:nvPr/>
            </p:nvSpPr>
            <p:spPr>
              <a:xfrm>
                <a:off x="1149120" y="1543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Line 10"/>
              <p:cNvSpPr/>
              <p:nvPr/>
            </p:nvSpPr>
            <p:spPr>
              <a:xfrm>
                <a:off x="1149120" y="1772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Line 11"/>
              <p:cNvSpPr/>
              <p:nvPr/>
            </p:nvSpPr>
            <p:spPr>
              <a:xfrm>
                <a:off x="1149120" y="2000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Line 12"/>
              <p:cNvSpPr/>
              <p:nvPr/>
            </p:nvSpPr>
            <p:spPr>
              <a:xfrm>
                <a:off x="1149120" y="2229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Line 13"/>
              <p:cNvSpPr/>
              <p:nvPr/>
            </p:nvSpPr>
            <p:spPr>
              <a:xfrm>
                <a:off x="1149120" y="2458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" name="Line 14"/>
              <p:cNvSpPr/>
              <p:nvPr/>
            </p:nvSpPr>
            <p:spPr>
              <a:xfrm>
                <a:off x="1149120" y="2686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" name="Line 15"/>
              <p:cNvSpPr/>
              <p:nvPr/>
            </p:nvSpPr>
            <p:spPr>
              <a:xfrm>
                <a:off x="1149120" y="2915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" name="Line 16"/>
              <p:cNvSpPr/>
              <p:nvPr/>
            </p:nvSpPr>
            <p:spPr>
              <a:xfrm>
                <a:off x="1149120" y="3143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" name="Line 17"/>
              <p:cNvSpPr/>
              <p:nvPr/>
            </p:nvSpPr>
            <p:spPr>
              <a:xfrm>
                <a:off x="1149120" y="3372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" name="Line 18"/>
              <p:cNvSpPr/>
              <p:nvPr/>
            </p:nvSpPr>
            <p:spPr>
              <a:xfrm>
                <a:off x="1149120" y="3601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" name="Line 19"/>
              <p:cNvSpPr/>
              <p:nvPr/>
            </p:nvSpPr>
            <p:spPr>
              <a:xfrm>
                <a:off x="1149120" y="3829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" name="Line 20"/>
              <p:cNvSpPr/>
              <p:nvPr/>
            </p:nvSpPr>
            <p:spPr>
              <a:xfrm>
                <a:off x="1149120" y="4058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" name="Line 21"/>
              <p:cNvSpPr/>
              <p:nvPr/>
            </p:nvSpPr>
            <p:spPr>
              <a:xfrm>
                <a:off x="1149120" y="4286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" name="Line 22"/>
              <p:cNvSpPr/>
              <p:nvPr/>
            </p:nvSpPr>
            <p:spPr>
              <a:xfrm>
                <a:off x="1149120" y="4515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" name="Line 23"/>
              <p:cNvSpPr/>
              <p:nvPr/>
            </p:nvSpPr>
            <p:spPr>
              <a:xfrm>
                <a:off x="1149120" y="4744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" name="Line 24"/>
              <p:cNvSpPr/>
              <p:nvPr/>
            </p:nvSpPr>
            <p:spPr>
              <a:xfrm>
                <a:off x="1149120" y="4972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" name="Line 25"/>
              <p:cNvSpPr/>
              <p:nvPr/>
            </p:nvSpPr>
            <p:spPr>
              <a:xfrm>
                <a:off x="1149120" y="5201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" name="Line 26"/>
              <p:cNvSpPr/>
              <p:nvPr/>
            </p:nvSpPr>
            <p:spPr>
              <a:xfrm>
                <a:off x="1149120" y="54298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" name="Line 27"/>
              <p:cNvSpPr/>
              <p:nvPr/>
            </p:nvSpPr>
            <p:spPr>
              <a:xfrm>
                <a:off x="1149120" y="56584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" name="Line 28"/>
              <p:cNvSpPr/>
              <p:nvPr/>
            </p:nvSpPr>
            <p:spPr>
              <a:xfrm>
                <a:off x="1149120" y="58870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" name="Line 29"/>
              <p:cNvSpPr/>
              <p:nvPr/>
            </p:nvSpPr>
            <p:spPr>
              <a:xfrm>
                <a:off x="1149120" y="61156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" name="Line 30"/>
              <p:cNvSpPr/>
              <p:nvPr/>
            </p:nvSpPr>
            <p:spPr>
              <a:xfrm>
                <a:off x="1149120" y="6344280"/>
                <a:ext cx="7742520" cy="0"/>
              </a:xfrm>
              <a:prstGeom prst="line">
                <a:avLst/>
              </a:prstGeom>
              <a:ln w="9360">
                <a:solidFill>
                  <a:srgbClr val="ddddd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1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 type="dt" idx="1"/>
          </p:nvPr>
        </p:nvSpPr>
        <p:spPr>
          <a:xfrm>
            <a:off x="10411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D2E11-6421-4167-AB2C-ED9BF5AA5CBB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 type="ftr" idx="2"/>
          </p:nvPr>
        </p:nvSpPr>
        <p:spPr>
          <a:xfrm>
            <a:off x="350496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 type="sldNum" idx="3"/>
          </p:nvPr>
        </p:nvSpPr>
        <p:spPr>
          <a:xfrm>
            <a:off x="693396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23E1-87E4-461E-B642-6EDE7106AC8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3" descr="minispir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72" name="Rectangle 4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Picture 5" descr="minispir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 type="dt" idx="4"/>
          </p:nvPr>
        </p:nvSpPr>
        <p:spPr>
          <a:xfrm>
            <a:off x="1117080" y="6114600"/>
            <a:ext cx="193068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47C3F-F42F-4B8A-8E24-22DE1BED726C}" type="datetime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 type="ftr" idx="5"/>
          </p:nvPr>
        </p:nvSpPr>
        <p:spPr>
          <a:xfrm>
            <a:off x="3556080" y="611460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 type="sldNum" idx="6"/>
          </p:nvPr>
        </p:nvSpPr>
        <p:spPr>
          <a:xfrm>
            <a:off x="7010280" y="611460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cc9864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9524-E828-4040-B030-CB0EC47A0B71}" type="slidenum">
              <a:rPr b="0" lang="ru-RU" sz="1400" spc="-1" strike="noStrike">
                <a:solidFill>
                  <a:srgbClr val="cc9864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Прямоугольник 4"/>
          <p:cNvSpPr/>
          <p:nvPr/>
        </p:nvSpPr>
        <p:spPr>
          <a:xfrm>
            <a:off x="1285920" y="13572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70c0"/>
                </a:solidFill>
                <a:latin typeface="Monotype Corsiva"/>
              </a:rPr>
              <a:t>  </a:t>
            </a:r>
            <a:endParaRPr b="1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8BABF-1A4C-49C5-B439-66B45DF9F5E8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Нижний колонтитул 4"/>
          <p:cNvSpPr/>
          <p:nvPr/>
        </p:nvSpPr>
        <p:spPr>
          <a:xfrm>
            <a:off x="3564000" y="616572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Picture 6" descr="C:\Users\ORG\Desktop\devushka-seroglazaya-shatenka-1729.jpg"/>
          <p:cNvPicPr/>
          <p:nvPr/>
        </p:nvPicPr>
        <p:blipFill>
          <a:blip r:embed="rId1"/>
          <a:stretch/>
        </p:blipFill>
        <p:spPr>
          <a:xfrm>
            <a:off x="1514520" y="981000"/>
            <a:ext cx="6772320" cy="490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"/>
          <p:cNvPicPr/>
          <p:nvPr/>
        </p:nvPicPr>
        <p:blipFill>
          <a:blip r:embed="rId1"/>
          <a:stretch/>
        </p:blipFill>
        <p:spPr>
          <a:xfrm>
            <a:off x="2079720" y="0"/>
            <a:ext cx="4921200" cy="6858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155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D05D9-0D27-441A-850F-833E6B4245CB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28D93-51AA-4122-828B-FB37CB6DE6EC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B1E875-B17D-418A-A93D-CCE13FA97AC8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Прямоугольник 4"/>
          <p:cNvSpPr/>
          <p:nvPr/>
        </p:nvSpPr>
        <p:spPr>
          <a:xfrm>
            <a:off x="1258920" y="982800"/>
            <a:ext cx="720072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н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Игорь Грабарь – мастер ..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писание картины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главная героиня  – …. (                   )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березовая роща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…. на горизонте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….;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) …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Замысел художник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…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CB9D7-622B-4CB7-90FC-5D9D53371BAE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465FF-3E4F-453D-9EC4-1FA971474C17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Прямоугольник 4"/>
          <p:cNvSpPr/>
          <p:nvPr/>
        </p:nvSpPr>
        <p:spPr>
          <a:xfrm>
            <a:off x="1258920" y="982800"/>
            <a:ext cx="72007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План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1. Игорь Грабарь – мастер пейзаж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2. Описание картины: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а) главная героиня  – береза (цвет, ствол, ветви, листья)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б) березовая роща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в) кустарник на горизонте;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г) небо; 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) снег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3. Замысел художника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4. Мое впечатление о картине.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A8437-84AA-4191-B817-8ED29E5502E9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9583D-2693-4A1A-8A33-83DAF1F5CF6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2" descr="C:\Users\ORG\Desktop\памятки для групповой работы\правила работы в паре.jpg"/>
          <p:cNvPicPr/>
          <p:nvPr/>
        </p:nvPicPr>
        <p:blipFill>
          <a:blip r:embed="rId1"/>
          <a:stretch/>
        </p:blipFill>
        <p:spPr>
          <a:xfrm>
            <a:off x="1017720" y="1100160"/>
            <a:ext cx="7630920" cy="5302080"/>
          </a:xfrm>
          <a:prstGeom prst="rect">
            <a:avLst/>
          </a:prstGeom>
          <a:ln w="0">
            <a:noFill/>
          </a:ln>
        </p:spPr>
      </p:pic>
      <p:sp>
        <p:nvSpPr>
          <p:cNvPr id="168" name="Прямоугольник 4"/>
          <p:cNvSpPr/>
          <p:nvPr/>
        </p:nvSpPr>
        <p:spPr>
          <a:xfrm>
            <a:off x="1835280" y="54936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Calibri"/>
              </a:rPr>
              <a:t>Правила работы в паре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5D17DC-AEE3-491D-B21D-BB703B695464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3BFF7-84C1-40F3-B6EB-26A71CD015A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Прямоугольник 4"/>
          <p:cNvSpPr/>
          <p:nvPr/>
        </p:nvSpPr>
        <p:spPr>
          <a:xfrm>
            <a:off x="1116000" y="1125360"/>
            <a:ext cx="7128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удожник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живописец</a:t>
            </a: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мастер кисти, пейзажист, автор картины, певец русской природы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Прямоугольник 5"/>
          <p:cNvSpPr/>
          <p:nvPr/>
        </p:nvSpPr>
        <p:spPr>
          <a:xfrm>
            <a:off x="1042920" y="2565360"/>
            <a:ext cx="6696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тина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олотно, репродукция, холст, пейзаж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Прямоугольник 6"/>
          <p:cNvSpPr/>
          <p:nvPr/>
        </p:nvSpPr>
        <p:spPr>
          <a:xfrm>
            <a:off x="1190520" y="3716280"/>
            <a:ext cx="7345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тина чудесная –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замечательная, прекрасная.</a:t>
            </a:r>
            <a:br>
              <a:rPr sz="2800"/>
            </a:b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Прямоугольник 7"/>
          <p:cNvSpPr/>
          <p:nvPr/>
        </p:nvSpPr>
        <p:spPr>
          <a:xfrm>
            <a:off x="1150920" y="5100480"/>
            <a:ext cx="72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Художник создаёт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– пишет, изобразил, создал, сумел передать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1"/>
          <p:cNvSpPr/>
          <p:nvPr/>
        </p:nvSpPr>
        <p:spPr>
          <a:xfrm>
            <a:off x="1143000" y="456840"/>
            <a:ext cx="7786800" cy="259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*******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      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И стоит берёза в сонной тишине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И горят снежинки в золотом огне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А заря, лениво обходя кругом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Обсыпает ветки новым серебром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(С. Есенин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Rectangle 2"/>
          <p:cNvSpPr/>
          <p:nvPr/>
        </p:nvSpPr>
        <p:spPr>
          <a:xfrm>
            <a:off x="971640" y="3114720"/>
            <a:ext cx="7786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</a:t>
            </a: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******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   </a:t>
            </a: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Новый, новый у берёз наряд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 Искры, искры, серебром горят.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 Ветер, ветер заметает след,</a:t>
            </a:r>
            <a:br>
              <a:rPr sz="2800"/>
            </a:br>
            <a:r>
              <a:rPr b="1" i="1" lang="ru-RU" sz="2800" spc="-1" strike="noStrike">
                <a:solidFill>
                  <a:srgbClr val="000066"/>
                </a:solidFill>
                <a:latin typeface="Times New Roman"/>
                <a:ea typeface="Calibri"/>
              </a:rPr>
              <a:t> Лучше, лучше этой сказки нет. 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66"/>
                </a:solidFill>
                <a:latin typeface="Times New Roman"/>
                <a:ea typeface="Calibri"/>
              </a:rPr>
              <a:t>(М. Пляцковский)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                                                        </a:t>
            </a:r>
            <a:r>
              <a:rPr b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******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66"/>
                </a:solidFill>
                <a:latin typeface="Times New Roman"/>
                <a:ea typeface="Calibri"/>
              </a:rPr>
              <a:t>                                                          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Klassicheskaya_muzyka_-_relaks_(iPlayer.fm).mp3" descr=""/>
          <p:cNvPicPr/>
          <p:nvPr/>
        </p:nvPicPr>
        <p:blipFill>
          <a:blip r:embed="rId1"/>
          <a:stretch/>
        </p:blipFill>
        <p:spPr>
          <a:xfrm>
            <a:off x="1071720" y="628668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0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1" fill="hold"/>
                                        <p:tgtEl>
                                          <p:spTgt spid="17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3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806F-6D5C-45FD-A4A8-972E12D6F1BC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65C8A-D6D6-4BBB-B5C0-1E1BAF419FAE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"/>
          <p:cNvGraphicFramePr/>
          <p:nvPr/>
        </p:nvGraphicFramePr>
        <p:xfrm>
          <a:off x="1403280" y="1557360"/>
          <a:ext cx="7201080" cy="4964040"/>
        </p:xfrm>
        <a:graphic>
          <a:graphicData uri="http://schemas.openxmlformats.org/drawingml/2006/table">
            <a:tbl>
              <a:tblPr/>
              <a:tblGrid>
                <a:gridCol w="1970280"/>
                <a:gridCol w="5230800"/>
              </a:tblGrid>
              <a:tr h="731880"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картины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5079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ь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3539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за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101628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8460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ег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50796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ечатление</a:t>
                      </a: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182" name="Прямоугольник 5"/>
          <p:cNvSpPr/>
          <p:nvPr/>
        </p:nvSpPr>
        <p:spPr>
          <a:xfrm>
            <a:off x="2855520" y="692280"/>
            <a:ext cx="3729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е таблицу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960BA-1CA7-4DEC-89EE-8B3EE7CF635C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440D2-FB9A-4985-AE24-283ED3948756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971640" y="958680"/>
          <a:ext cx="7921440" cy="5596200"/>
        </p:xfrm>
        <a:graphic>
          <a:graphicData uri="http://schemas.openxmlformats.org/drawingml/2006/table">
            <a:tbl>
              <a:tblPr/>
              <a:tblGrid>
                <a:gridCol w="1884240"/>
                <a:gridCol w="6037200"/>
              </a:tblGrid>
              <a:tr h="30492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часть картины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описание</a:t>
                      </a:r>
                      <a:endParaRPr b="1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</a:tr>
              <a:tr h="6984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день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зимний, ясный, чудесный, солнечный, изумительный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46700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берез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береза-красавица, жемчужные березы, коралловые ветви, серебристые стволы, кристаллики снега на ветвях, раскинула ветви, величественная, прошлогодняя листва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129708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небо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лазоревое, синее огромное, безоблачное, бесконечное, голубая эмаль неба, раскинулось, обнимает, голубеет сквозь ветви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  <a:tr h="105732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снег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70c0"/>
                          </a:solidFill>
                          <a:latin typeface="Times New Roman"/>
                        </a:rPr>
                        <a:t>сапфировые тени на сиреневом снегу, сугробы, ослепительно блестит на солнце, искрится, сверкает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6f6f6"/>
                    </a:solidFill>
                  </a:tcPr>
                </a:tc>
              </a:tr>
              <a:tr h="771480"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впечатление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bcbcb"/>
                    </a:solidFill>
                  </a:tcPr>
                </a:tc>
                <a:tc>
                  <a:txBody>
                    <a:bodyPr lIns="50760" rIns="50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радостное праздничное настроение, чарующий пейзаж, сказочное </a:t>
                      </a:r>
                      <a:endParaRPr b="1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50760" marR="50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cecec"/>
                    </a:solidFill>
                  </a:tcPr>
                </a:tc>
              </a:tr>
            </a:tbl>
          </a:graphicData>
        </a:graphic>
      </p:graphicFrame>
      <p:sp>
        <p:nvSpPr>
          <p:cNvPr id="187" name="Прямоугольник 5"/>
          <p:cNvSpPr/>
          <p:nvPr/>
        </p:nvSpPr>
        <p:spPr>
          <a:xfrm>
            <a:off x="2501640" y="430200"/>
            <a:ext cx="49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верьте и дополните таблицу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"/>
          <p:cNvSpPr/>
          <p:nvPr/>
        </p:nvSpPr>
        <p:spPr>
          <a:xfrm>
            <a:off x="214200" y="74520"/>
            <a:ext cx="3714840" cy="6494760"/>
          </a:xfrm>
          <a:prstGeom prst="rect">
            <a:avLst/>
          </a:prstGeom>
          <a:solidFill>
            <a:srgbClr val="e2e2e2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70c0"/>
                </a:solidFill>
                <a:latin typeface="Bookman Old Style"/>
                <a:ea typeface="Calibri"/>
              </a:rPr>
              <a:t>   </a:t>
            </a:r>
            <a:r>
              <a:rPr b="1" lang="ru-RU" sz="1800" spc="-1" strike="noStrike">
                <a:solidFill>
                  <a:srgbClr val="0070c0"/>
                </a:solidFill>
                <a:latin typeface="Bookman Old Style"/>
                <a:ea typeface="Calibri"/>
              </a:rPr>
              <a:t>И.Э.Грабарь  вот  такими  словами   описывал  своё  любимое  время  года  </a:t>
            </a:r>
            <a:r>
              <a:rPr b="1" lang="ru-RU" sz="2400" spc="-1" strike="noStrike">
                <a:solidFill>
                  <a:srgbClr val="0070c0"/>
                </a:solidFill>
                <a:latin typeface="Bookman Old Style"/>
                <a:ea typeface="Calibri"/>
              </a:rPr>
              <a:t>: “Настали  чудесные  солнечные  февральские  дни.  В  природе  творилось  нечто необычное.  Казалось,  что  она  праздновала  какой-то  небывалый  праздник  лазоревого  неба,  жемчужных  берёз,  коралловых  веток  и  сапфировых  теней  на сиреневом  снегу”.                                  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9" name="Picture 2" descr=""/>
          <p:cNvPicPr/>
          <p:nvPr/>
        </p:nvPicPr>
        <p:blipFill>
          <a:blip r:embed="rId1"/>
          <a:stretch/>
        </p:blipFill>
        <p:spPr>
          <a:xfrm>
            <a:off x="4000680" y="0"/>
            <a:ext cx="4921200" cy="6858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190" name="Дата 3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62C54-B717-4ECD-A235-F11CD747FFDA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Номер слайда 4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E1E145-BC77-45A8-A1DC-D4EFC4A18906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9DA59-30CF-4A83-BE84-6A05E939E6CE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A463D-93AA-4249-A5C6-D080DEF3D835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Прямоугольник 4"/>
          <p:cNvSpPr/>
          <p:nvPr/>
        </p:nvSpPr>
        <p:spPr>
          <a:xfrm>
            <a:off x="1332000" y="243000"/>
            <a:ext cx="6912000" cy="606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ПАМЯТКА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Как работать в группе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. Говори  вполголоса, чтобы не мешать  работе других групп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2. Не отвлекайся на посторонние дела и разговоры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3. Успех группы зависит от каждого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4. Задания распределяй так, чтобы каждый мог справиться после коллективного обсуждения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5. Помогай товарищам, если они об этом просят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6. Анализируй свою деятельность, вовремя корректируй недостатки.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04292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линные бессмертные произведения искусства остаются доступными и доставляют наслаждение  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сем временам и народам. </a:t>
            </a:r>
            <a:br>
              <a:rPr sz="4400"/>
            </a:br>
            <a:r>
              <a:rPr b="0" i="1" lang="ru-RU" sz="4400" spc="-1" strike="noStrike">
                <a:solidFill>
                  <a:srgbClr val="000000"/>
                </a:solidFill>
                <a:latin typeface="Times New Roman"/>
              </a:rPr>
              <a:t>Гегел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Picture 2" descr=""/>
          <p:cNvPicPr/>
          <p:nvPr/>
        </p:nvPicPr>
        <p:blipFill>
          <a:blip r:embed="rId1"/>
          <a:stretch/>
        </p:blipFill>
        <p:spPr>
          <a:xfrm>
            <a:off x="2079720" y="0"/>
            <a:ext cx="4921200" cy="68580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197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0A1AE-1780-4BB3-B7C1-02B87073A95F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1066680" y="17715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Написать сочинение по картине И. Грабаря «Февральская лазурь» на черновик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Нижний колонтитул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Номер слайда 5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05BE9-3C79-4215-B425-0B7D738CA269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00000"/>
                </a:solidFill>
                <a:latin typeface="Book Antiqua"/>
              </a:rPr>
              <a:t>Рефлексия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066680" y="177156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-30852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Book Antiqu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Какие цели мы ставили на уроке? Удалось ли их достичь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Что вызвало затруднение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Понравилось ли вам, как вы работали на уроке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5028840" y="177156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Сегодня я узнал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Сегодня я научился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Для меня стало новы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Book Antiqua"/>
              </a:rPr>
              <a:t>- Для меня было трудно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971280" y="691920"/>
            <a:ext cx="817236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Оцените свою работу, продолжив фразу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а уроке я работал…..(хорошо, отлично, удовлетворительно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Я думаю, что мог бы работать …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buClr>
                <a:srgbClr val="7030a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 работу на уроке я ставлю себе оценку …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Дата 1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385D2-6251-4186-93AE-1EA758FCA0C5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Нижний колонтитул 2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7D014-3243-4647-BE02-446F3962CC21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7" descr="https://fs00.infourok.ru/images/doc/296/295251/img13.jpg"/>
          <p:cNvPicPr/>
          <p:nvPr/>
        </p:nvPicPr>
        <p:blipFill>
          <a:blip r:embed="rId1"/>
          <a:stretch/>
        </p:blipFill>
        <p:spPr>
          <a:xfrm>
            <a:off x="1476360" y="981000"/>
            <a:ext cx="6622920" cy="49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2" descr=""/>
          <p:cNvPicPr/>
          <p:nvPr/>
        </p:nvPicPr>
        <p:blipFill>
          <a:blip r:embed="rId1"/>
          <a:stretch/>
        </p:blipFill>
        <p:spPr>
          <a:xfrm>
            <a:off x="2179800" y="1440"/>
            <a:ext cx="4714560" cy="685656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3"/>
          <p:cNvSpPr/>
          <p:nvPr/>
        </p:nvSpPr>
        <p:spPr>
          <a:xfrm>
            <a:off x="4929120" y="2035440"/>
            <a:ext cx="39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Номер слайда 4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D31CE-57E7-493D-90D0-68CADAAA1DB7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Прямоугольник 4"/>
          <p:cNvSpPr/>
          <p:nvPr/>
        </p:nvSpPr>
        <p:spPr>
          <a:xfrm>
            <a:off x="1285920" y="1357200"/>
            <a:ext cx="70009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Двадцатое декабря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Подготовка к сочинению по картине   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70c0"/>
                </a:solidFill>
                <a:latin typeface="Times New Roman"/>
              </a:rPr>
              <a:t>И.Э. Грабаря «Февральская лазурь».</a:t>
            </a: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Нижний колонтитул 4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4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"/>
          <p:cNvPicPr/>
          <p:nvPr/>
        </p:nvPicPr>
        <p:blipFill>
          <a:blip r:embed="rId1"/>
          <a:stretch/>
        </p:blipFill>
        <p:spPr>
          <a:xfrm>
            <a:off x="5643720" y="4357800"/>
            <a:ext cx="2854080" cy="1908000"/>
          </a:xfrm>
          <a:prstGeom prst="rect">
            <a:avLst/>
          </a:prstGeom>
          <a:ln w="0">
            <a:noFill/>
          </a:ln>
        </p:spPr>
      </p:pic>
      <p:sp>
        <p:nvSpPr>
          <p:cNvPr id="126" name="TextBox 2"/>
          <p:cNvSpPr/>
          <p:nvPr/>
        </p:nvSpPr>
        <p:spPr>
          <a:xfrm>
            <a:off x="5572080" y="6215040"/>
            <a:ext cx="3000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ретьяковская галерея, Москва.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3" descr=""/>
          <p:cNvPicPr/>
          <p:nvPr/>
        </p:nvPicPr>
        <p:blipFill>
          <a:blip r:embed="rId2"/>
          <a:stretch/>
        </p:blipFill>
        <p:spPr>
          <a:xfrm>
            <a:off x="1214280" y="428760"/>
            <a:ext cx="2086200" cy="2782800"/>
          </a:xfrm>
          <a:prstGeom prst="rect">
            <a:avLst/>
          </a:prstGeom>
          <a:ln w="0">
            <a:noFill/>
          </a:ln>
        </p:spPr>
      </p:pic>
      <p:sp>
        <p:nvSpPr>
          <p:cNvPr id="128" name="TextBox 4"/>
          <p:cNvSpPr/>
          <p:nvPr/>
        </p:nvSpPr>
        <p:spPr>
          <a:xfrm>
            <a:off x="1071720" y="3214800"/>
            <a:ext cx="228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втопортрет с палитрой, 1934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4"/>
          <p:cNvSpPr/>
          <p:nvPr/>
        </p:nvSpPr>
        <p:spPr>
          <a:xfrm>
            <a:off x="3500280" y="518760"/>
            <a:ext cx="5214960" cy="371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Игорь Эммануилович Грабарь родился в 1871 году в Будапеште в семье юриста. Из-за политических преследований в 1876 году семья переехала в Россию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Грабарь получил блестящее образование, окончив сначала Московский лицей, затем юридический факультет Петербургского университета. После окончания университета он поступил в Высшую художественную школу при Академии искусств.  Учителем Грабаря был Репин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С 1913 - 1925 гг руководил Третьяковской галереей. Участвовал в создании новых музеев, в охране памятников, занимался реставрацией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                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  <a:ea typeface="Calibri"/>
              </a:rPr>
              <a:t>Грабарь - тонкий живописец, мастер пейзажа и натюрморта. Его кисти принадлежат картины: "Сентябрьский снег", "Мартовский снег", "Лучезарное утро", "Ясный осенний вечер", "Разъяснивается", "Зимний пейзаж", "Берёзы летом" и др.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             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Все они проникнуты радостным, светлым чувством. 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8" descr="Грабарь - на главную"/>
          <p:cNvPicPr/>
          <p:nvPr/>
        </p:nvPicPr>
        <p:blipFill>
          <a:blip r:embed="rId3"/>
          <a:stretch/>
        </p:blipFill>
        <p:spPr>
          <a:xfrm>
            <a:off x="1619280" y="3933720"/>
            <a:ext cx="1523880" cy="2000520"/>
          </a:xfrm>
          <a:prstGeom prst="rect">
            <a:avLst/>
          </a:prstGeom>
          <a:ln w="0">
            <a:noFill/>
          </a:ln>
        </p:spPr>
      </p:pic>
      <p:sp>
        <p:nvSpPr>
          <p:cNvPr id="131" name="Номер слайда 8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73881-C47E-4404-BC90-4DB350CEF51A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Picture 2" descr=""/>
          <p:cNvPicPr/>
          <p:nvPr/>
        </p:nvPicPr>
        <p:blipFill>
          <a:blip r:embed="rId1"/>
          <a:stretch/>
        </p:blipFill>
        <p:spPr>
          <a:xfrm>
            <a:off x="5292720" y="236520"/>
            <a:ext cx="3029040" cy="629928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grpSp>
        <p:nvGrpSpPr>
          <p:cNvPr id="133" name="Прямоугольник 2"/>
          <p:cNvGrpSpPr/>
          <p:nvPr/>
        </p:nvGrpSpPr>
        <p:grpSpPr>
          <a:xfrm>
            <a:off x="4181400" y="6083280"/>
            <a:ext cx="4511880" cy="615960"/>
            <a:chOff x="4181400" y="6083280"/>
            <a:chExt cx="4511880" cy="615960"/>
          </a:xfrm>
        </p:grpSpPr>
        <p:pic>
          <p:nvPicPr>
            <p:cNvPr id="134" name="Прямоугольник 2" descr=""/>
            <p:cNvPicPr/>
            <p:nvPr/>
          </p:nvPicPr>
          <p:blipFill>
            <a:blip r:embed="rId2"/>
            <a:stretch/>
          </p:blipFill>
          <p:spPr>
            <a:xfrm>
              <a:off x="4181400" y="6083280"/>
              <a:ext cx="4511880" cy="615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>
              <a:off x="4284720" y="6165720"/>
              <a:ext cx="4319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Times New Roman"/>
                </a:rPr>
                <a:t>Белая зима. Грачиные гнезда</a:t>
              </a:r>
              <a:endParaRPr b="1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36" name="Picture 3" descr=""/>
          <p:cNvPicPr/>
          <p:nvPr/>
        </p:nvPicPr>
        <p:blipFill>
          <a:blip r:embed="rId3"/>
          <a:stretch/>
        </p:blipFill>
        <p:spPr>
          <a:xfrm>
            <a:off x="539640" y="236520"/>
            <a:ext cx="4286520" cy="5594400"/>
          </a:xfrm>
          <a:prstGeom prst="rect">
            <a:avLst/>
          </a:prstGeom>
          <a:ln w="9360">
            <a:solidFill>
              <a:srgbClr val="990099"/>
            </a:solidFill>
            <a:miter/>
          </a:ln>
        </p:spPr>
      </p:pic>
      <p:sp>
        <p:nvSpPr>
          <p:cNvPr id="137" name="Прямоугольник 4"/>
          <p:cNvSpPr/>
          <p:nvPr/>
        </p:nvSpPr>
        <p:spPr>
          <a:xfrm>
            <a:off x="900000" y="5934240"/>
            <a:ext cx="3057480" cy="45972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100000">
                <a:srgbClr val="c5c5c5"/>
              </a:gs>
            </a:gsLst>
            <a:lin ang="16200000"/>
          </a:gradFill>
          <a:ln w="9360">
            <a:solidFill>
              <a:srgbClr val="c6c6c6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62626"/>
                </a:solidFill>
                <a:latin typeface="Times New Roman"/>
              </a:rPr>
              <a:t>Мартовский снег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Номер слайда 6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7A95D-0B1B-4C06-B26F-9E1E70ECDEA6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"/>
          <p:cNvPicPr/>
          <p:nvPr/>
        </p:nvPicPr>
        <p:blipFill>
          <a:blip r:embed="rId1"/>
          <a:stretch/>
        </p:blipFill>
        <p:spPr>
          <a:xfrm>
            <a:off x="142920" y="214200"/>
            <a:ext cx="3987720" cy="5816880"/>
          </a:xfrm>
          <a:prstGeom prst="rect">
            <a:avLst/>
          </a:prstGeom>
          <a:ln w="9360">
            <a:solidFill>
              <a:srgbClr val="cc3300"/>
            </a:solidFill>
            <a:miter/>
          </a:ln>
        </p:spPr>
      </p:pic>
      <p:pic>
        <p:nvPicPr>
          <p:cNvPr id="140" name="Picture 3" descr=""/>
          <p:cNvPicPr/>
          <p:nvPr/>
        </p:nvPicPr>
        <p:blipFill>
          <a:blip r:embed="rId2"/>
          <a:stretch/>
        </p:blipFill>
        <p:spPr>
          <a:xfrm>
            <a:off x="4951440" y="285840"/>
            <a:ext cx="3938400" cy="4857840"/>
          </a:xfrm>
          <a:prstGeom prst="rect">
            <a:avLst/>
          </a:prstGeom>
          <a:ln w="0">
            <a:noFill/>
          </a:ln>
        </p:spPr>
      </p:pic>
      <p:sp>
        <p:nvSpPr>
          <p:cNvPr id="141" name="TextBox 3"/>
          <p:cNvSpPr/>
          <p:nvPr/>
        </p:nvSpPr>
        <p:spPr>
          <a:xfrm>
            <a:off x="214200" y="6143760"/>
            <a:ext cx="38577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86868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Золотые листья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TextBox 4"/>
          <p:cNvSpPr/>
          <p:nvPr/>
        </p:nvSpPr>
        <p:spPr>
          <a:xfrm>
            <a:off x="5072040" y="5214960"/>
            <a:ext cx="35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Майский вечер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Номер слайда 6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E408A6-36AF-4306-8B61-9DAFF2791BCD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214200" y="214200"/>
            <a:ext cx="4275360" cy="3571920"/>
          </a:xfrm>
          <a:prstGeom prst="rect">
            <a:avLst/>
          </a:prstGeom>
          <a:ln w="38160">
            <a:solidFill>
              <a:srgbClr val="008000"/>
            </a:solidFill>
            <a:miter/>
          </a:ln>
        </p:spPr>
      </p:pic>
      <p:sp>
        <p:nvSpPr>
          <p:cNvPr id="145" name="TextBox 2"/>
          <p:cNvSpPr/>
          <p:nvPr/>
        </p:nvSpPr>
        <p:spPr>
          <a:xfrm>
            <a:off x="357120" y="3786120"/>
            <a:ext cx="4071960" cy="4597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Утренний чай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"/>
          <p:cNvPicPr/>
          <p:nvPr/>
        </p:nvPicPr>
        <p:blipFill>
          <a:blip r:embed="rId2"/>
          <a:stretch/>
        </p:blipFill>
        <p:spPr>
          <a:xfrm>
            <a:off x="4643280" y="2270160"/>
            <a:ext cx="4158000" cy="4289400"/>
          </a:xfrm>
          <a:prstGeom prst="rect">
            <a:avLst/>
          </a:prstGeom>
          <a:ln w="38160">
            <a:solidFill>
              <a:srgbClr val="990099"/>
            </a:solidFill>
            <a:miter/>
          </a:ln>
        </p:spPr>
      </p:pic>
      <p:sp>
        <p:nvSpPr>
          <p:cNvPr id="147" name="TextBox 4"/>
          <p:cNvSpPr/>
          <p:nvPr/>
        </p:nvSpPr>
        <p:spPr>
          <a:xfrm>
            <a:off x="4643280" y="1928880"/>
            <a:ext cx="4214880" cy="459720"/>
          </a:xfrm>
          <a:prstGeom prst="rect">
            <a:avLst/>
          </a:prstGeom>
          <a:solidFill>
            <a:srgbClr val="ffffff"/>
          </a:solidFill>
          <a:ln w="38160">
            <a:solidFill>
              <a:srgbClr val="99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Хризантемы 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Номер слайда 6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E52BC-F176-4918-9067-B1DDDBB61F76}" type="slidenum">
              <a:rPr b="0" lang="ru-RU" sz="1400" spc="-1" strike="noStrike">
                <a:solidFill>
                  <a:srgbClr val="ff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066680" y="3996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Ф. Толстой «Цветы, фрукты, птица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Дата 2"/>
          <p:cNvSpPr/>
          <p:nvPr/>
        </p:nvSpPr>
        <p:spPr>
          <a:xfrm>
            <a:off x="104148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6F5EC-D078-4B8F-AC2D-E9F86E6DD84F}" type="datetime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28.07.26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Нижний колонтитул 3"/>
          <p:cNvSpPr/>
          <p:nvPr/>
        </p:nvSpPr>
        <p:spPr>
          <a:xfrm>
            <a:off x="3505320" y="6157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Титаренко Марина Юрьевна</a:t>
            </a:r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Номер слайда 4"/>
          <p:cNvSpPr/>
          <p:nvPr/>
        </p:nvSpPr>
        <p:spPr>
          <a:xfrm>
            <a:off x="6934320" y="6157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9BB32-5899-43FE-8939-ECFDBBA02F8C}" type="slidenum">
              <a:rPr b="0" lang="ru-RU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3" name="Picture 2" descr="C:\Users\ORG\Desktop\481249.jpg"/>
          <p:cNvPicPr/>
          <p:nvPr/>
        </p:nvPicPr>
        <p:blipFill>
          <a:blip r:embed="rId1"/>
          <a:stretch/>
        </p:blipFill>
        <p:spPr>
          <a:xfrm>
            <a:off x="1476360" y="1557360"/>
            <a:ext cx="6951600" cy="485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3-13T09:16:50Z</dcterms:created>
  <dc:creator>elior</dc:creator>
  <dc:description/>
  <dc:language>en-US</dc:language>
  <cp:lastModifiedBy>HOME</cp:lastModifiedBy>
  <dcterms:modified xsi:type="dcterms:W3CDTF">2017-12-29T07:30:30Z</dcterms:modified>
  <cp:revision>247</cp:revision>
  <dc:subject/>
  <dc:title>ОСОБЕННОСТИ ДРЕВНИХ ЦИВИЛИЗАЦИЙ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205000000000001023620</vt:lpwstr>
  </property>
</Properties>
</file>